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415D-F6BB-45EB-B3F6-2DBF09EC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D33A-03CF-4E82-8329-CD58F951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EB45-E188-45E6-9AF5-86D715C6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5F1-224B-49AA-BC8C-DE5870E2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DDDB-9D93-4E4F-8134-4E8F327E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6AA5-2591-4BCC-A180-84032E06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4468-7E77-41BB-87E1-A7826288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8A3E-F993-4F2B-8867-ADABE6E3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61B4-F5C2-4ED5-B08B-D3044A35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3F0C-2603-4088-919C-1935BE00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C109-BE69-453D-A9CA-0778D6AB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CC3-B073-49C3-8F7F-828A59F1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366D-D24C-496B-93EF-DC2C72CD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57D5-7F4A-4795-B5BE-802A8C3C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C6ED-7FAA-4AAD-9AC0-FCD0B35B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8A60-433F-4735-8FAB-A87C350E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36E0-0098-43C2-B617-4080ADEB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BE8-073D-4D03-8AF2-85FCBBA8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830-109C-4713-BDCC-2A601F02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D7A3-C526-4309-A05A-E6ECE203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C09C-1D50-42F2-8CA4-3F56A12D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A19-3B67-44BE-97CB-F34A5347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F4C-D955-4DE5-BF88-E92AD524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7152-3327-43BB-B3A0-61660C2C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D919-8C12-40B8-9766-A6A219B0E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20E4-345C-4E53-8D9B-D7BB91434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wx.prenhall.com/bookbind/pubbooks/hillchem3/medialib/media_portfolio/text_images/CH02/FG02_09.JPG&amp;imgrefurl=http://cwx.prenhall.com/bookbind/pubbooks/hillchem3/medialib/media_portfolio/02.html&amp;h=600&amp;w=580&amp;sz=80&amp;hl=en&amp;start=1&amp;tbnid=N44Lp3ViO41xxM:&amp;tbnh=135&amp;tbnw=131&amp;prev=/images%3Fq%3Datoms%2Bmolecules%2Bformula%2Bunits%26gbv%3D2%26svnum%3D10%26hl%3Den%26safe%3Doff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hemical Quantities - </a:t>
            </a:r>
            <a:br>
              <a:rPr sz="4100"/>
            </a:b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Moles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4114800"/>
            <a:ext cx="5410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14479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ll Roads Go Through Mo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lculations between mass/particles, particles/volume, and mass/volume are possible by first calculating the number of mo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00200" y="3392640"/>
            <a:ext cx="5867280" cy="3465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0384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@S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53440" cy="5410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3049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ltimately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ercent by Mass (Percent Composition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rcentage of each element in the mass of a compound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the percent composition of each element in sodium phosphate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acti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the percent composition of Mg(OH)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the mass of Mg in 97.4g Mg(OH)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termining an Empirical Formul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mpirical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owest whole number ratio of elements in a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% composition and assume 100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 by MM of each element to get m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 all by lowest number of m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be Multip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empirical formu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a compound is determined to be 36.4% nitrogen and 63.16% oxygen, what is the empirical formu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acti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the empirical formula of a compound that is 72.4% Fe &amp; 27.6% 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termining a Molecular Formul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lecular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ultiple of empirical formula that accurately shows number of each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mass of empirical formula (EF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 MM of the compound by the EF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y empirical formula by res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molecular formu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A compound has a molar mass of 110.0 g/mol.  What is the molecular formula if it is 65.45% C, 5.45% H, and 29.09% 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actice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the molecular formula of a compound that has an empirical formula of 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d a gfm = 146 g/mo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EST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ltiple Choice  and.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legant Problem Solv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unting Partic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ticles are counted in mo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ypes of representative partic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s- smallest unit of an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lecule- smallest unit of a molecular comp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 Unit- smallest unit of an ionic comp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800600"/>
            <a:ext cx="17654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hy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5" name="" descr="avogadro.jpg (12825 bytes)"/>
          <p:cNvPicPr/>
          <p:nvPr/>
        </p:nvPicPr>
        <p:blipFill>
          <a:blip r:embed="rId1"/>
          <a:stretch/>
        </p:blipFill>
        <p:spPr>
          <a:xfrm>
            <a:off x="1495440" y="2254320"/>
            <a:ext cx="2305080" cy="3340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9720" indent="-6397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oms are inconceivably sm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39720" indent="-6397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Avogadro’s Numb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6.02 x 1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the number of carbon-12 atoms in 12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nderstanding React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76960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+  3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2N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 molecule of nitrogen and 3 molecules of hydrogen produce 2 molecules of nitrogen trihydri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 mole of nitrogen molecules and 3 moles of hydrogen molecules produce 2 moles of nitrogen trihydride molec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1971720" cy="514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057400" y="2819520"/>
            <a:ext cx="838080" cy="520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057400" y="1752480"/>
            <a:ext cx="838080" cy="520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2057400" y="2286000"/>
            <a:ext cx="838080" cy="520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724280" y="1828800"/>
            <a:ext cx="58104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724280" y="2590920"/>
            <a:ext cx="581040" cy="533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" y="1676520"/>
            <a:ext cx="685800" cy="6858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438280"/>
            <a:ext cx="762120" cy="6858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unting Partic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les → Particles (multiply by Avogadro’s number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How many atoms are there in 3 moles of aluminu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ticles → Moles (divide by A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How many moles are there in 5.71x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mula units of calcium chlorid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4038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ass and the Mo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M (molar mas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ss of 1 mole of representative particles in a compound or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ing Between Moles and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ms → Moles (divide by molar ma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How many moles are there in 135.2 g of water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les → Grams   (multiply by M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How many grams are there in 3.46 moles of calcium carbon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Volume and the Mo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der a specific set of conditions, namely STP (standard temperature and pressure, 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 and 1 at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 mole = 22.4 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ing Between Moles an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→ Moles (divide by 22.4 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How many moles are there in 3.8L of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ST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s → Volume   (multiply by 22.4 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What volume, in liters, does 0.5 moles of 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ccupy at ST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nsity, Volume and Mo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provided with the density of a gas at STP, then using the volume of 22.4L will allow you to calculate the molar mass of the ga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nsity of a gas containing carbon and oxygen at STP is 1.25g/L.  What is the molar mass of this gas?  What is its ident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22:14:26Z</dcterms:created>
  <dc:creator>cmichene</dc:creator>
  <dc:description/>
  <dc:language>en-US</dc:language>
  <cp:lastModifiedBy>udsd</cp:lastModifiedBy>
  <dcterms:modified xsi:type="dcterms:W3CDTF">2012-02-06T16:17:19Z</dcterms:modified>
  <cp:revision>48</cp:revision>
  <dc:subject/>
  <dc:title>Moles and Stoichiometry</dc:title>
</cp:coreProperties>
</file>